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73418"/>
        <c:axId val="85999864"/>
      </c:barChart>
      <c:catAx>
        <c:axId val="8473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99864"/>
        <c:crosses val="autoZero"/>
        <c:auto val="1"/>
        <c:lblAlgn val="ctr"/>
        <c:lblOffset val="100"/>
        <c:noMultiLvlLbl val="0"/>
      </c:catAx>
      <c:valAx>
        <c:axId val="85999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3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6BB-9AC2-4507-A92A-E4A8E054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212-0093-4CE1-A9CD-98E9EA5B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F18-7975-4654-AC86-60C91101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96C-9925-48AD-B42B-12717742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4CB-F1F0-492F-8AD3-A1F138CD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5C4-D528-44D1-A215-445EDFAD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9C8-A868-4A28-A9D9-F33DFB80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3A2-21D2-4C65-8039-29B17C4D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49F-FEBF-44A6-8B04-95F5408D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3EE-47ED-46F7-B373-6162FDC4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EF5-847E-462E-91B6-9A2C7831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5B8-0D82-4FCF-AD9D-2C5C11BA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8D004-5A38-4A8B-AAF6-09DCB241E4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